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8D1-25AA-4B80-93E8-AB3FA996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A80-54B4-4C2D-B11A-4AD6F0B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060-D807-4BE0-9886-64064796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3CD-0E2E-4B1D-94F0-0C4299AF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61D-6887-4461-8C2A-D80C31F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500-F5D2-434D-B4BA-E41DA021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A5C-3E40-4B2D-96FC-721DA46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649-1DD4-4C95-A56D-94D102E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EDF-3BC4-4C77-AC86-8AC1A6B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EF-1021-4E25-A65A-744CB8A9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FD3-2A26-4D3D-B902-E737D9A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3C9-45D3-42A1-9249-E38CA00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BF3-7444-42EE-8F06-0E7E22D97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766-DD7B-4701-BC27-7BC7A709A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ECOLOGICAL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38320" y="33526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Allen Sirolly &amp; Jake Mut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(&gt;^.^)&gt;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THE END!!!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&lt;(^.^&lt;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1219320" y="-3962520"/>
            <a:ext cx="6629400" cy="3810240"/>
            <a:chOff x="1219320" y="-3962520"/>
            <a:chExt cx="6629400" cy="3810240"/>
          </a:xfrm>
        </p:grpSpPr>
        <p:pic>
          <p:nvPicPr>
            <p:cNvPr id="98" name="Picture 10" descr="http://www.menunkatuck.org/files/4912/6590/6285/balloons.gif"/>
            <p:cNvPicPr/>
            <p:nvPr/>
          </p:nvPicPr>
          <p:blipFill>
            <a:blip r:embed="rId1"/>
            <a:stretch/>
          </p:blipFill>
          <p:spPr>
            <a:xfrm>
              <a:off x="2895480" y="-3471120"/>
              <a:ext cx="1878480" cy="27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4" descr="http://www.menunkatuck.org/files/4912/6590/6285/balloons.gif"/>
            <p:cNvPicPr/>
            <p:nvPr/>
          </p:nvPicPr>
          <p:blipFill>
            <a:blip r:embed="rId2"/>
            <a:stretch/>
          </p:blipFill>
          <p:spPr>
            <a:xfrm>
              <a:off x="6172560" y="-3471120"/>
              <a:ext cx="16761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2" descr="http://www.menunkatuck.org/files/4912/6590/6285/balloons.gif"/>
            <p:cNvPicPr/>
            <p:nvPr/>
          </p:nvPicPr>
          <p:blipFill>
            <a:blip r:embed="rId3"/>
            <a:stretch/>
          </p:blipFill>
          <p:spPr>
            <a:xfrm>
              <a:off x="4496040" y="-3962520"/>
              <a:ext cx="256176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http://www.menunkatuck.org/files/4912/6590/6285/balloons.gif"/>
            <p:cNvPicPr/>
            <p:nvPr/>
          </p:nvPicPr>
          <p:blipFill>
            <a:blip r:embed="rId4"/>
            <a:stretch/>
          </p:blipFill>
          <p:spPr>
            <a:xfrm>
              <a:off x="1219320" y="-3606840"/>
              <a:ext cx="1981080" cy="29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095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uccession!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cc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series of changes resulting from a severe disturbance in a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urb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vent that changes a community, removes organisms from it, and alters resource availability. (often a necessity in some commun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hysicalgeography.net/fundamentals/images/succession.gif"/>
          <p:cNvPicPr/>
          <p:nvPr/>
        </p:nvPicPr>
        <p:blipFill>
          <a:blip r:embed="rId1"/>
          <a:stretch/>
        </p:blipFill>
        <p:spPr>
          <a:xfrm>
            <a:off x="1600200" y="3200400"/>
            <a:ext cx="586728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800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urba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06632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mediate disturbance hypoth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s that moderate levels of disturbance can foster higher diversity than low levels of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 can show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ili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nei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-scale fire in Yellowstone National Park in 1988 demonstrated that communities can often respond very rapidly to a massive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609480" y="2971800"/>
            <a:ext cx="8159760" cy="3359160"/>
            <a:chOff x="609480" y="2971800"/>
            <a:chExt cx="8159760" cy="3359160"/>
          </a:xfrm>
        </p:grpSpPr>
        <p:pic>
          <p:nvPicPr>
            <p:cNvPr id="49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2971800"/>
              <a:ext cx="762192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"/>
            <p:cNvSpPr/>
            <p:nvPr/>
          </p:nvSpPr>
          <p:spPr>
            <a:xfrm>
              <a:off x="914040" y="5638680"/>
              <a:ext cx="37908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oon after fire. As this photo taken soon after the fire shows, the burn left a patchy landscape. Note the unburned trees in the distanc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724280" y="5638680"/>
              <a:ext cx="40449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One year after fire. This photo of the same general area taken the following year indicates how rapidly the com-munity began to recover. A variety of herbaceous plants, different from those in the former forest, cover the groun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uman disturb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s are the most widespread agents of disturb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 disturbance to communities usually reduces species d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umans also prevent some naturally occurring disturbances, which can be important to community 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static.howstuffworks.com/gif/nuclear-bomb-test.jpg"/>
          <p:cNvPicPr/>
          <p:nvPr/>
        </p:nvPicPr>
        <p:blipFill>
          <a:blip r:embed="rId1"/>
          <a:stretch/>
        </p:blipFill>
        <p:spPr>
          <a:xfrm>
            <a:off x="5029200" y="609480"/>
            <a:ext cx="2819520" cy="198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cosmosmagazine.com/files/imagecache/news/files/20070511_deforestation.jpg"/>
          <p:cNvPicPr/>
          <p:nvPr/>
        </p:nvPicPr>
        <p:blipFill>
          <a:blip r:embed="rId2"/>
          <a:stretch/>
        </p:blipFill>
        <p:spPr>
          <a:xfrm>
            <a:off x="3581280" y="2133720"/>
            <a:ext cx="234324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theproducersperspective.com/.a/6a00e54ef2e21b883301156f477fbc970c-pi"/>
          <p:cNvPicPr/>
          <p:nvPr/>
        </p:nvPicPr>
        <p:blipFill>
          <a:blip r:embed="rId3"/>
          <a:stretch/>
        </p:blipFill>
        <p:spPr>
          <a:xfrm>
            <a:off x="6248520" y="2819520"/>
            <a:ext cx="1963440" cy="28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05596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992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imary succ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761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s severe disturbances such as volcanic e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oil, vegetation, or life remains. (starting from scrat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04172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econdary succ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7960" y="1676160"/>
            <a:ext cx="4041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urbance dramatically alters a community, but doesn’t destroy all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ing vegetation and soil are the building blocks for succ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es, hurricanes, farming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2819160" cy="23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297504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ioneer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se are the species that arrive and colonize the new substrate fir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ve adaptations like long roots, root nodes with nitrogen-fixing bacteria, stomata, spores &amp; seeds, etc. for surviving in nutrient-poor soi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caying plant litter &amp; eroded rock provides soil for secondary success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liche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lgae, bac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llowed by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intermediate speci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stages) unti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upload.wikimedia.org/wikipedia/en/9/9d/Plants_flowers_ice_rocks_lichens_209.jpg"/>
          <p:cNvPicPr/>
          <p:nvPr/>
        </p:nvPicPr>
        <p:blipFill>
          <a:blip r:embed="rId1"/>
          <a:stretch/>
        </p:blipFill>
        <p:spPr>
          <a:xfrm>
            <a:off x="3809880" y="53352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upload.wikimedia.org/wikipedia/commons/3/3f/Death_valley_flowers_1.jpg"/>
          <p:cNvPicPr/>
          <p:nvPr/>
        </p:nvPicPr>
        <p:blipFill>
          <a:blip r:embed="rId2"/>
          <a:stretch/>
        </p:blipFill>
        <p:spPr>
          <a:xfrm>
            <a:off x="4267080" y="35812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38320" y="3049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limax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38320" y="152352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ains in place with little modification until another disturbance restarts success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determined by climate and soil cond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ce disturbed, the community may never truly revive back to its “climax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hade toleranc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 shade intolerant flora (pines) are succeeded by shade tolerant ones (hardwood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ts of different theories regarding climax commun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multicolouredplanet.com/uploads/718041237/95/1/images/fangorn_forest.jpg"/>
          <p:cNvPicPr/>
          <p:nvPr/>
        </p:nvPicPr>
        <p:blipFill>
          <a:blip r:embed="rId1"/>
          <a:stretch/>
        </p:blipFill>
        <p:spPr>
          <a:xfrm>
            <a:off x="380880" y="457200"/>
            <a:ext cx="4343400" cy="307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college2cali.files.wordpress.com/2009/12/california-redwood-2.jpg"/>
          <p:cNvPicPr/>
          <p:nvPr/>
        </p:nvPicPr>
        <p:blipFill>
          <a:blip r:embed="rId2"/>
          <a:stretch/>
        </p:blipFill>
        <p:spPr>
          <a:xfrm>
            <a:off x="1371600" y="32004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35040" y="227160"/>
            <a:ext cx="7872480" cy="6402240"/>
            <a:chOff x="635040" y="227160"/>
            <a:chExt cx="7872480" cy="64022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635040" y="227160"/>
              <a:ext cx="7872480" cy="64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4021200" y="244440"/>
              <a:ext cx="27939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ioneer stage, with fireweed domin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7475760" y="1531800"/>
              <a:ext cx="960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Dryas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 s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4127400" y="5883480"/>
              <a:ext cx="6984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pru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"/>
            <p:cNvSpPr/>
            <p:nvPr/>
          </p:nvSpPr>
          <p:spPr>
            <a:xfrm>
              <a:off x="995400" y="6129360"/>
              <a:ext cx="2720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itrogen fixation b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Dryas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 and a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reases the soil nitrogen cont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93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going change of types and numbers of species in a freshwater lake commun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starts with algae, microbes, zooplankton → cattails, rush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kes slowly shrink, sped up by human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Lake Succession"/>
          <p:cNvPicPr/>
          <p:nvPr/>
        </p:nvPicPr>
        <p:blipFill>
          <a:blip r:embed="rId1"/>
          <a:stretch/>
        </p:blipFill>
        <p:spPr>
          <a:xfrm>
            <a:off x="4724280" y="1600200"/>
            <a:ext cx="32115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40:29Z</dcterms:created>
  <dc:creator>Allen</dc:creator>
  <dc:description/>
  <dc:language>en-US</dc:language>
  <cp:lastModifiedBy>Allen</cp:lastModifiedBy>
  <dcterms:modified xsi:type="dcterms:W3CDTF">2010-11-13T17:46:25Z</dcterms:modified>
  <cp:revision>27</cp:revision>
  <dc:subject/>
  <dc:title>ECOLOGICAL SUCCESSION</dc:title>
</cp:coreProperties>
</file>